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9438-6DB1-4A9D-9709-3D6F495DE4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0789-7F44-417C-9252-8A1D5E4B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4DB0-678D-4212-8A94-2483A77B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C288-7C6F-4A72-A117-1FF1B56B9A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91158-DB7C-4FD6-A6F5-85FE52EA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83EE-4395-4EF0-A7BC-4711C16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8035-92E5-422F-9A28-DF1F405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A982-4A61-4AED-9933-9037DAA3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893D-BE26-41FB-A834-10CF974B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A561-9AC7-478C-BAF2-FC081B11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B5A09-56BB-4929-882F-BD57853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E797-984E-4083-83EC-ECFEFC1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C34-1562-4E40-9789-6351AEF3510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心绞痛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钙拮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维拉帕米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verapamil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地尔硫卓（</a:t>
            </a:r>
            <a:r>
              <a:rPr b="0" lang="en-US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diltiazem</a:t>
            </a:r>
            <a:r>
              <a:rPr b="0" lang="zh-CN" sz="2800" spc="-1" strike="noStrike" u="sng">
                <a:solidFill>
                  <a:srgbClr val="046ca6"/>
                </a:solidFill>
                <a:uFillTx/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320" y="1285920"/>
            <a:ext cx="814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扩张冠状动脉，改善缺血区供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保护缺血心肌细胞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小板聚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状动脉痉挛引起的变异型心绞痛最为有效，也可用于稳定型及不稳定型心绞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74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其扩张血管和心肌抑制作用相关，表现为</a:t>
            </a:r>
            <a:r>
              <a:rPr b="0" lang="zh-CN" sz="31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颜面潮红，头痛，恶心，反射性心率加快，严重者为低血压，心功能抑制（只见维拉帕米和地尔硫卓），关节水肿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妊娠和哺乳期妇女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钙拮抗药治疗心绞痛时应监测血压和心率，控制好剂量和给药时间，以防血压过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药期间不要饮用含酒精的饮料，以防发生眩晕及低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地尔硫卓和维拉帕米的病人心率低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时，应警惕可能发生心功能不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剂合用，具有协同作用，但易引起低血压、心肌梗死等，需加注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抗心绞痛的机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酸甘油的主要不良反应及应用注意事项有哪些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酸酯类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断药合用治疗心绞痛的药理学基础及注意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硝苯地平治疗变异型心绞痛的药理基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甘油、普萘洛尔抗心绞痛作用、作用机制、临床应用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两类药物合用的药理学基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异山梨酯、钙拮抗剂的作用及作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抗心绞痛药物的分类及主要代表药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目前临床上常用的以改善缺血，减轻症状为目的的抗心绞痛药物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硝酸酯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断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硝酸酯类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酸甘油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troglyceri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扩张冠状动脉，增加缺血区的血液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左室充盈压，增加心内膜供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减少血小板聚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急性心肌梗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心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及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扩张引起的搏动性头痛，颈部和面部皮肤潮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偶见体位性低血压引起的晕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可引起高铁血红蛋白血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扩张眼内血管使眼压增高，颅内压高者及青光眼患者忌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连续应用易产生耐受性，停药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可恢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服药前应告诉可能出现搏动性头痛及面颈部皮肤潮红，继续用药数日后可自行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避免体位性低血压引起的晕厥，应平卧用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绞痛发作时坐位或半卧位用药，舌下含服，不可嚼服或吞服；一片未缓解，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后可再用一次，仍不缓解立即医院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药物应放置患者和家属都知道的地方，以备急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软膏剂或膏药型为长效药，作用时间较长，经常变位置，以防局部刺激引起炎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3920"/>
            <a:ext cx="8610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静脉滴注硝酸甘油注意事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在用药前及用药中应监测血压，脉搏和面部情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掌握好给药速度，以每分钟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~2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滴速度滴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“现用现配，分次少量”的方法配制液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外出时随身携带药物（不要放在内衣口袋）及用药证明卡片，以便发作时，其他人可帮助给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告诉患者有关冠心病的自我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降低心肌耗氧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缺血区心肌的供血供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改善心肌代谢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稳定型及不稳定型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伴有高血压、心率快或心律失常者更适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变异型心绞痛无效或甚至使症状加重，病情恶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见的不良反应为消化道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心动过缓、房室传导阻滞、心功能不全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服此药者，应嘱其不能随意骤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过程中检测心率、血压和心电图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食物能延缓普萘洛尔吸收，应在饭前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劝告患者服用本药应戒烟，以免降低药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2:53:21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